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591-8BA0-434A-A94F-19334924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2C8-F34A-444E-B086-C2CF0CF8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3EF-413F-46AF-8F11-31B0515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5C1-C310-42A3-B280-4CD3D31E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64C4-F3E2-4204-BAB0-8081B494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F04C-9EE7-4A44-923E-0591C85B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E665-1270-4EC8-9BD5-A0430E8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B94B-7062-42C6-A8B1-FB88449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D05-EABD-4044-94FF-00BDAB32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EC2-3946-49AF-9329-3ACCA2D1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230-0056-4BE7-836B-292D5C3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68B-1279-419C-8430-7DD444DD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F28-7A94-491C-B4A6-F9C7517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CC8D-A65C-4C14-AF57-CF5D015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B1E7-7BC0-4147-B6DB-72ED514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0FDD-3DFA-471F-8949-5A429C88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E3C-B075-4385-A9CF-F6D5D839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77AA-F490-4D1E-ABD7-39A738BB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85FB-40A1-40CE-A7C4-E20C6833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C380-B439-448C-AB64-A89D3E14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DF0C-C7A8-4414-B469-9010593C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FB5B-9C11-447E-BD51-652B80E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A51-5CF1-44EE-895F-C613370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9080-C8F1-40DB-AB97-089A16F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3B8A-F77F-46DD-AB75-31C6BB5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D266-7090-4263-9945-88F5EBD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83A7-821D-4C23-B279-4C15513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EAB7-12ED-434A-ADA7-7E5ECFC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BD00-7DF0-453A-9D7C-2230B680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B91F-887D-4395-9C82-07E1E57F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57D0-5820-42AE-9951-99A768AB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693D-21CF-41CA-ABEA-761FCF7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D3E4-202E-4771-83D0-BC8DE60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620-1791-4EB5-983B-FFBF922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0E00A-4234-4563-B377-7546911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6179-0F1E-43C5-A1D1-87F08F5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B50D-E577-4805-B61F-69E93FCD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ADFE-A2BB-4B02-93C6-7FDBFB6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DB56-28CE-478C-84E3-7763E90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CAF2-A463-4C66-99F9-FF83C05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FAFD-A6B8-466F-9E58-6B6184F6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308C-1913-4AEB-A0C6-E398461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91A5-C495-472E-A1D2-DB4F8C8B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CF00-CAD6-4809-BEF9-95D11077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3E4-D289-411B-B470-B55E0D9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78F0-C034-4966-AA69-8EBBFBCA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CC11-DE1E-412F-9E23-3B7A8CD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812A-791F-4C15-A796-7A0572C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BAC5-E5F0-4901-B27C-80108BD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F7124-8EF8-479F-8A22-62CA99D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E337-3A73-4968-90CC-BB32DEB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EEC8-31F2-4773-9DCA-5F3C8B1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C3F4-76E6-4E59-B547-F6DB30C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0CAD-6D14-4893-9FFC-56779E35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1A49-D33A-43A0-B109-DF0EE59B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36C-27CD-4136-B9D5-D3324ED1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BD26-C1E1-45FF-BED3-8472F398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C76C-1652-4B0D-A57B-67ACA641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F5D6-F49C-443C-9A96-9958660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CBCB-8389-43C9-A9F5-E3C629A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81EED-5ED2-4495-961B-E9EB4C6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AFF4B-D2A5-42EC-8414-6EEFEBD9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C5D5-1827-4567-B858-3704D37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4F0B-E363-4912-B1C7-FC381DF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E5C9-8A4B-4217-B523-6C86C1F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1220-6CD0-46AE-83E2-1F1BC79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49E-5F61-4132-A70E-19B0CE1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FBCD9-98D2-426D-A672-BEA7D6F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B6EF-9894-4478-AED6-C1CFAB11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4982-888A-47A8-AD5F-D0A6140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B894-4F05-4648-9DCD-DF28DBDF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CB19-178D-4C38-AC04-43CDDE06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1C8A-C1B4-4552-A9FB-CFE7D5F4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3B9D-91E7-4D06-A844-643C77E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95C8-F5FD-45F4-B603-5E3AEC2A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A7F7-FDC1-4AB0-94DF-1864BFA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7B57-48CE-4709-93CD-104916F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88B-EADE-4C8C-BC2A-C61D96E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4CAFF-9630-4C46-91D5-CF19764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BD59A-23B4-4E8B-B992-9B3613A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B69D-43A4-42C9-AB6F-8E98B292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0F23-C92E-470F-ABEE-4DC20F7F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5B19-72B7-492C-ADD3-CB7E52D6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463-7BB0-4C54-9DF4-2763A4D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175-FE46-43F7-919A-638D4F3A20D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3AF-A665-4779-ABC9-15D2CAAB34C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9945-7C37-4F1A-BF12-1DCFDFFE171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FC2-6F60-4531-AC2E-F09988D9E78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EC8C-FAF3-4AF2-BCF8-926694C9D7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8CF-87B0-409E-97FA-67E597EB019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ABD0-E9D6-4C79-AC9F-E3137E086AD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evor Re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thermal  Energy is gathered from the Earth itself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iginates from radioactive decay of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  from solar energy absorbed at the surface of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thermal energy has the same uses as any other fossil fuel, just more efficient and less expen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Obtai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btaining this energy releases a mixture of ga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drogen Sulf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missions are about 1/6 of burning fossil fu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t water from the sources may contain traces of dangerous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rcury,  Arsenic, and Antimon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sts can actually be quite inexpensive compared to other energy 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st depends on the way you use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$0.05 per kWh (Kilowatt-hou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360360" y="152280"/>
            <a:ext cx="845964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used mostly around geysers and the areas it is easily obtain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t power plants can be built, just a bit more pric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s not commonly used because of a cooling problem of the extremely heated wa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UMM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9" descr="GeothermalHeatPumpSummer2.jpg"/>
          <p:cNvPicPr/>
          <p:nvPr/>
        </p:nvPicPr>
        <p:blipFill>
          <a:blip r:embed="rId2"/>
          <a:stretch/>
        </p:blipFill>
        <p:spPr>
          <a:xfrm>
            <a:off x="0" y="2666880"/>
            <a:ext cx="4572000" cy="3630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WINT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Content Placeholder 10" descr="GeothermalHeatPumpWinter2.jpg"/>
          <p:cNvPicPr/>
          <p:nvPr/>
        </p:nvPicPr>
        <p:blipFill>
          <a:blip r:embed="rId3"/>
          <a:stretch/>
        </p:blipFill>
        <p:spPr>
          <a:xfrm>
            <a:off x="4724280" y="266688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45:24Z</dcterms:created>
  <dc:creator> </dc:creator>
  <dc:description/>
  <dc:language>en-US</dc:language>
  <cp:lastModifiedBy> </cp:lastModifiedBy>
  <dcterms:modified xsi:type="dcterms:W3CDTF">2009-04-28T14:46:26Z</dcterms:modified>
  <cp:revision>5</cp:revision>
  <dc:subject/>
  <dc:title>Geothermal Energy</dc:title>
</cp:coreProperties>
</file>